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415-5F88-45E1-9D17-FFF5DB7C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45D-3158-47BE-BB30-57BD8990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B29-B929-4FA8-8873-57858B83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2D9-6CDA-49F7-BA13-DD2372BD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9BC-82F2-4A79-96E1-1E1D1BFE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23F-9EA0-4E24-AB77-653DFAB8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152-43C4-472D-8E54-2F5A6E86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3FA-909B-410C-88FE-B007D6BF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E88-71A1-4639-B087-0FF65A2E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5B5-7C7D-4A64-8102-DE29AAD8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DAE-F415-4A44-9CAD-0311BD5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EDB-F1A1-465F-AB62-A30E654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03AE-FDF8-4B05-9C0B-7438DE754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video.nytimes.com/video/2009/10/08/sports/baseball/1247465063639/unearthed-babe-ruth-footage.html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ports in the 192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: Micah Jacob &amp; Ka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35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0"/>
            <a:ext cx="3027240" cy="1965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72200" y="4443480"/>
            <a:ext cx="2971800" cy="2414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477120" y="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2362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895480" y="4381560"/>
            <a:ext cx="3302280" cy="2476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162920" y="2133720"/>
            <a:ext cx="1981080" cy="232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0" y="44956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jor League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82720" y="3938760"/>
            <a:ext cx="3186000" cy="2187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national sports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opular sport of the time 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’s past ti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teams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in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in Amer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30400" y="1600200"/>
            <a:ext cx="26906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ational Negro Leag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first successful organized Negro League was established on February 13, 1920, at a YMCA in Kansas City, Missouri by Andrew "Rube" Fo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s009529.jpg image by melof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NNL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721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Arial"/>
              </a:rPr>
              <a:t>Most Fam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be Ruth- Babe Ruth, who earned more than $2 million in his career, was known by several other names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ll (the Bambino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be Ruth's career mark of 714 home runs stood 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-time record for 39 years, until Hank Aaron hit 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15th on Opening Day of the 1974 sea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be Ruth is the only player ever to hit three home 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a World Series game on two separate occasion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ame 4 of the 1926 Series and Game 4 of the 1928 S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ideo.nytimes.com/video/2009/10/08/sports/baseball/1247465063639/unearthed-babe-ruth-footage.htm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aterski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lph Samuelson of Minnesota invented waterskiing in 19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fter failed attempts of skiing on water with barrel staves and snow skis, Ralph, at the age of 18, tried out pinewood boards with curved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 the tips, Ralph applied boiler steam to the 8' x 9" wooden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ther materials that were used were an iron ring for a handle and 100 feet of cord for a tow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Swimming was a huge sport for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05756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280" y="1981080"/>
            <a:ext cx="40388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 won 8 gold, 5 silver, and 3 bronz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1920 summer Olympic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nic associations and settlement houses had also built swimming pools and established competitive swim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22096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y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cial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towns made money and lost money on f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re diverse than other 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nama al brown was the first Hispanic world ch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Arial"/>
              </a:rPr>
              <a:t>Famous Bo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Benny Ly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Scot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One of the best flyweight box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Movie St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Jack Demp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World heavy weight champion 1919 – 19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World famous f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A rematch with Gene Tunney was known as The Long Count F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54080" y="4038480"/>
            <a:ext cx="1893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late 1910’s golfers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re courses needed to be made (j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n to middl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obby J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e of the best golfers to this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ired at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ilden &amp; W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ly dominated tennis in America and ab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nnis was becoming a huge 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inly the upp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272736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cce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327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mmi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rying to set up a national governing organization to determine rules and tourn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Played at fa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ff"/>
                </a:solidFill>
                <a:latin typeface="Arial"/>
              </a:rPr>
              <a:t>Football focused mainly on college te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ff"/>
                </a:solidFill>
                <a:latin typeface="Arial"/>
              </a:rPr>
              <a:t>Gear was much more dangerous and penalties were overlooked of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ff"/>
                </a:solidFill>
                <a:latin typeface="Arial"/>
              </a:rPr>
              <a:t>Forward pas was rarely used, and games were very low scoring with common 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ational Football Le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nded in 1920, but not taken seriously for decades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llege football was where the “pros” wer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lding/grabbing wa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2871720"/>
            <a:ext cx="4038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lloping Gho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old Edward “Red” Grange was a college and professional American football half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elped legitimize the NFL by signing with the Chicago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the greatest college football player of all time by ESPN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63480" y="1600200"/>
            <a:ext cx="36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03:56Z</dcterms:created>
  <dc:creator>TECH</dc:creator>
  <dc:description/>
  <dc:language>en-US</dc:language>
  <cp:lastModifiedBy>ASD</cp:lastModifiedBy>
  <dcterms:modified xsi:type="dcterms:W3CDTF">2010-06-22T21:12:42Z</dcterms:modified>
  <cp:revision>6</cp:revision>
  <dc:subject/>
  <dc:title>Sports in the 1920’s</dc:title>
</cp:coreProperties>
</file>